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E9A-3406-47E3-828B-C402A41E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3AF-5596-44EB-B294-1F9B2EA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CA8-71BE-4615-A33D-D13379D1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D8F-6C9C-43AC-95AD-2FA5925C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054-21FD-4E4D-BBD5-9416821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0E8-ADB3-473D-B214-EBBAFAE1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DCF-2F16-4A40-B553-B8DCA843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E67-680F-4B3E-B882-987DC0E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BC6-59F8-455E-9C32-C9E9926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D30-2C1F-46F9-A84B-DCC6BF9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909-16A5-4125-8716-D5A0E258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77A-2CA7-47EB-A218-803343B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33A7-F077-42EB-8735-4EA2A9DECFE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3 Tá vzácna mil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vzácna milosť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tvojím smiem sa z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o tme sveta svetla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ad ňu môžem m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hriechu zvod ma pokú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d číha z všetkých st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ížom milosť okúš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, Kriste, z tvojich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milosť tvoja zbav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strachu, tráp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odpustení dar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 rad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tisíc rokov by som ž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šiel celý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milosť by som veleb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ktorú v svete ni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ser</cp:lastModifiedBy>
  <dcterms:modified xsi:type="dcterms:W3CDTF">2025-10-04T07:47:33Z</dcterms:modified>
  <cp:revision>13</cp:revision>
  <dc:subject/>
  <dc:title>Je veľký náš Pán, on slávy je Kráľ Nech do všetkých strán  spev vrúcnych znie chvál.</dc:title>
</cp:coreProperties>
</file>